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21.jpeg" ContentType="image/jpeg"/>
  <Override PartName="/ppt/media/image28.jpeg" ContentType="image/jpeg"/>
  <Override PartName="/ppt/media/image27.jpeg" ContentType="image/jpeg"/>
  <Override PartName="/ppt/media/image6.jpeg" ContentType="image/jpeg"/>
  <Override PartName="/ppt/media/image7.wmf" ContentType="image/x-wmf"/>
  <Override PartName="/ppt/media/image13.png" ContentType="image/png"/>
  <Override PartName="/ppt/media/image12.jpeg" ContentType="image/jpeg"/>
  <Override PartName="/ppt/media/image31.jpeg" ContentType="image/jpeg"/>
  <Override PartName="/ppt/media/image8.wmf" ContentType="image/x-wmf"/>
  <Override PartName="/ppt/media/image4.jpeg" ContentType="image/jpeg"/>
  <Override PartName="/ppt/media/image25.png" ContentType="image/png"/>
  <Override PartName="/ppt/media/image32.jpeg" ContentType="image/jpeg"/>
  <Override PartName="/ppt/media/image33.png" ContentType="image/png"/>
  <Override PartName="/ppt/media/image16.wmf" ContentType="image/x-wmf"/>
  <Override PartName="/ppt/media/image9.jpeg" ContentType="image/jpeg"/>
  <Override PartName="/ppt/media/image11.png" ContentType="image/png"/>
  <Override PartName="/ppt/media/image34.wmf" ContentType="image/x-wmf"/>
  <Override PartName="/ppt/media/image35.wmf" ContentType="image/x-wmf"/>
  <Override PartName="/ppt/media/image36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3.jpeg" ContentType="image/jpeg"/>
  <Override PartName="/ppt/media/image30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14.wmf" ContentType="image/x-wmf"/>
  <Override PartName="/ppt/media/image17.wmf" ContentType="image/x-wmf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2DFD-5235-49B3-8817-A222DE133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641E-6023-4D90-B619-5A6CCB2C2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C37E-45C6-4CD6-B0D3-993EEDCDC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F1D5-DDD0-46C1-A081-0EA2CF6F9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061A-F872-46F2-9ADC-3FBB5C308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A8C6-D91C-4B08-AB26-3E78DA3F3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A02E-C067-4E41-BE39-41E5B76F0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84C7-9C5F-4C2C-A66B-F7D143FF9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265C-1C5C-4FD8-8C34-98F2A5BEB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1FD8-0F30-4BA8-AEC9-6FA46A27C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E3C0-375D-4C0B-BF6B-F69E90682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C065-6960-4516-8256-9367915FB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48B5-53D0-4AA8-9E33-11D46D757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243F-8D81-4800-9013-36D4E8C7D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663B-F526-407A-A7DE-44E8A4259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12CC-45D7-4A6E-B82C-77F628C6F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C4FB-301D-4DE9-9A9B-642FC1CBF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5B04-27AC-4672-81E3-061EDCDC5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E51E-9761-483C-891E-1108BE3ED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4410-C3C3-42D2-979C-39A342C30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C330-59B3-44FC-B556-21A900E62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808D-B2CB-429E-8A2B-8F61FF183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F50A-BF76-440A-8437-EA5C4D535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BAAB-9AEF-4494-BCCC-07E72F3F9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2634-3C09-4A02-8EBC-C7C2CC7D7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D710-C677-4A35-87BF-178B5598F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DD34-3B67-424A-885F-344C67DF7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40DD-6EE9-40C2-BFF7-944C4C103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3824-7E21-4FC9-AB29-A18AC79C7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DF58-A02E-44BA-80BD-D6B159863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274C-0C5A-4131-A022-F649C05FA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2B92-EEFE-400E-AB5E-87044FC66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4F7E-B9BC-46AF-AFF4-154EB8DE5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7CA9-88F0-4975-91F9-311CD89FD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A2D6-6E0A-4807-BA2C-80D6902D7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4BBF-DDB4-4FCB-B918-826436E44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63ABA-1543-4230-A4E5-0863BB1036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AC3E7-C6B0-4FFB-9F56-90F431DD99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1A3B3-E94B-489C-B14B-9C2D6F0648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FE10D-8DC9-4E7B-A5C4-B083BB5A4C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68F5-AEC7-412F-A63C-74A20BBBA0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4D13-85F5-4FB9-8BC2-228F1773EB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3DC3-58FB-45D8-B81C-57B280B1DF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8125-5C20-4F39-9A1F-94013F63D5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8BE4-8567-42D1-A7AF-CACAC90A84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6B6B-B900-41EE-8DC4-43DD1807AC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28B7-C3EA-4389-BE1E-D851AD9B53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52444-F187-4097-A150-6B5312C722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4823-D80E-480C-AC3C-ABB5AA8857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4044-86E4-4A4F-A8FB-ADD4970D4B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D02E-7FF7-4B00-917E-53FCEB0D01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D85C-A238-4873-952C-A28E3DB8C6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4D72-E0F8-4D73-B77D-493FF07E12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30E1E-696D-4C38-9E4E-7A2BA4FFB3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DF262-C446-4DCF-8A5B-5820FBED6A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DD562-AF22-4253-9321-E8F03D5CC6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73A49-AAD8-45F3-90C5-E58B7C538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5F69C-E9C9-449D-A855-784DA5ED1D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00C02-C22F-48FD-88B0-4718193E30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55E6C-2395-46A4-8D9F-10390911C4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7D18-595C-48BA-9CD8-BCD8CDCD71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36DA-5A1F-4332-B02D-AF8C524FAB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image" Target="../media/image11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D34D-F49C-4D04-AD23-3CBA993BA6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>
                <a:solidFill>
                  <a:srgbClr val="ffffff"/>
                </a:solidFill>
                <a:latin typeface="Verdana"/>
              </a:rPr>
              <a:t>Évaluation : Audits</a:t>
            </a:r>
            <a:endParaRPr b="0" lang="en-US" sz="4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3A29-1EF0-40C2-AA19-7DFD3B9456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MCj04349290000[1]"/>
          <p:cNvPicPr/>
          <p:nvPr/>
        </p:nvPicPr>
        <p:blipFill>
          <a:blip r:embed="rId1"/>
          <a:stretch/>
        </p:blipFill>
        <p:spPr>
          <a:xfrm>
            <a:off x="205740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2"/>
          <a:srcRect l="0" t="15625" r="0" b="0"/>
          <a:stretch/>
        </p:blipFill>
        <p:spPr>
          <a:xfrm>
            <a:off x="5029200" y="4819680"/>
            <a:ext cx="3220920" cy="2038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ueillir l’information su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ocessus et les procédures opératoi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personnel, l’équipement, méthodes d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’environnement, la manipulation des échantill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contrôle de qualité et la vérification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atiques d’enregistrement et de rap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FB50-A98F-4427-AEB3-BE7D912A82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arer les résultants aux documents du système de gestion de la qualité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toute rupture ou déviation par rapport aux procédu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quelque chose des résultats d’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A2D5-BFDB-4DF1-8D6D-37AC2943ED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18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178" name="Oval 5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Autorités de san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4724280" y="914400"/>
            <a:ext cx="441972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gence d’accrédi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5562720" y="4343400"/>
            <a:ext cx="358128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gramme de santé publ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Oval 8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Bailleurs</a:t>
            </a:r>
            <a:br>
              <a:rPr sz="3200"/>
            </a:b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de fon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urs extern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19" descr="lab_design"/>
          <p:cNvPicPr/>
          <p:nvPr/>
        </p:nvPicPr>
        <p:blipFill>
          <a:blip r:embed="rId2"/>
          <a:stretch/>
        </p:blipFill>
        <p:spPr>
          <a:xfrm>
            <a:off x="3048120" y="1981080"/>
            <a:ext cx="2593800" cy="31244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0"/>
          <p:cNvSpPr/>
          <p:nvPr/>
        </p:nvSpPr>
        <p:spPr>
          <a:xfrm>
            <a:off x="3124080" y="31240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0A98-C7D5-4166-957E-BA5408B862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s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189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3" name="Group 32"/>
          <p:cNvGrpSpPr/>
          <p:nvPr/>
        </p:nvGrpSpPr>
        <p:grpSpPr>
          <a:xfrm>
            <a:off x="533520" y="3581280"/>
            <a:ext cx="5234040" cy="2933640"/>
            <a:chOff x="533520" y="3581280"/>
            <a:chExt cx="5234040" cy="2933640"/>
          </a:xfrm>
        </p:grpSpPr>
        <p:pic>
          <p:nvPicPr>
            <p:cNvPr id="194" name="Picture 5" descr="j0213395"/>
            <p:cNvPicPr/>
            <p:nvPr/>
          </p:nvPicPr>
          <p:blipFill>
            <a:blip r:embed="rId1"/>
            <a:stretch/>
          </p:blipFill>
          <p:spPr>
            <a:xfrm>
              <a:off x="4114800" y="442332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3" descr="j0433934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16"/>
            <p:cNvSpPr/>
            <p:nvPr/>
          </p:nvSpPr>
          <p:spPr>
            <a:xfrm>
              <a:off x="1905120" y="4227120"/>
              <a:ext cx="23778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Avertir personnel, aménager emploi du temps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7" name="Rectangle 17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éparation d’un audit extern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4648320"/>
            <a:ext cx="350532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assembler les informations et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9" name="Group 31"/>
          <p:cNvGrpSpPr/>
          <p:nvPr/>
        </p:nvGrpSpPr>
        <p:grpSpPr>
          <a:xfrm>
            <a:off x="380880" y="1447920"/>
            <a:ext cx="3885480" cy="2361600"/>
            <a:chOff x="380880" y="1447920"/>
            <a:chExt cx="3885480" cy="2361600"/>
          </a:xfrm>
        </p:grpSpPr>
        <p:pic>
          <p:nvPicPr>
            <p:cNvPr id="200" name="Picture 27" descr="MCj03636380000[1]"/>
            <p:cNvPicPr/>
            <p:nvPr/>
          </p:nvPicPr>
          <p:blipFill>
            <a:blip r:embed="rId3"/>
            <a:stretch/>
          </p:blipFill>
          <p:spPr>
            <a:xfrm>
              <a:off x="380880" y="1447920"/>
              <a:ext cx="3650400" cy="236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29"/>
            <p:cNvSpPr/>
            <p:nvPr/>
          </p:nvSpPr>
          <p:spPr>
            <a:xfrm>
              <a:off x="1087200" y="2149920"/>
              <a:ext cx="317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ifier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81F5-0B5E-496C-833C-BE6C50FA32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AutoShape 21"/>
          <p:cNvSpPr/>
          <p:nvPr/>
        </p:nvSpPr>
        <p:spPr>
          <a:xfrm rot="10800000">
            <a:off x="2438280" y="5409720"/>
            <a:ext cx="6400800" cy="8384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apport d’audit externe et plan d’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Identifiez manquements/non conformité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nregistrez les résultats et actions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digez un ra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Planifiez des 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Développez un calendri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ttribuez les responsabilité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4495680" y="1066680"/>
            <a:ext cx="44197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Laboratoire revoit/ comprend les recommand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20"/>
          <p:cNvSpPr/>
          <p:nvPr/>
        </p:nvSpPr>
        <p:spPr>
          <a:xfrm>
            <a:off x="2914560" y="1219320"/>
            <a:ext cx="1524240" cy="76176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22"/>
          <p:cNvSpPr/>
          <p:nvPr/>
        </p:nvSpPr>
        <p:spPr>
          <a:xfrm rot="5400000">
            <a:off x="6705000" y="3276360"/>
            <a:ext cx="3657600" cy="7621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26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27"/>
          <p:cNvSpPr/>
          <p:nvPr/>
        </p:nvSpPr>
        <p:spPr>
          <a:xfrm>
            <a:off x="609480" y="1447920"/>
            <a:ext cx="2133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apport et résumé des auditeurs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CFAA-0B29-4502-B922-AB8515B6BB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86" descr="MCj04099450000[1]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3" descr="spy_guy_bck_col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6553080" y="9144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9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0"/>
          <p:cNvSpPr/>
          <p:nvPr/>
        </p:nvSpPr>
        <p:spPr>
          <a:xfrm>
            <a:off x="6400800" y="35053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Moins coût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78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77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quis par standards I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régulièr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quand problèmes identifi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84"/>
          <p:cNvSpPr/>
          <p:nvPr/>
        </p:nvSpPr>
        <p:spPr>
          <a:xfrm>
            <a:off x="2895480" y="1293840"/>
            <a:ext cx="266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garder ses propres process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87" descr="bulles_CDC"/>
          <p:cNvPicPr/>
          <p:nvPr/>
        </p:nvPicPr>
        <p:blipFill>
          <a:blip r:embed="rId4"/>
          <a:stretch/>
        </p:blipFill>
        <p:spPr>
          <a:xfrm>
            <a:off x="228600" y="3670200"/>
            <a:ext cx="266688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43E7-4522-4132-A551-D57C6FABE3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aleur des audits intern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préparer pour un audit exter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nsibiliser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’amélio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ctions préventives et correctiv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e form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ondre aux standards d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69B4-A435-4D0B-AD81-94A92B2051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s Internes : Exigences IS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23"/>
          <p:cNvSpPr/>
          <p:nvPr/>
        </p:nvSpPr>
        <p:spPr>
          <a:xfrm>
            <a:off x="0" y="1752480"/>
            <a:ext cx="914400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gramme d’audit ex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cédures document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diteurs indépendants de l’activ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ésultats rendus sous forme de rapport et revus par la directio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tion de suivi rap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EC5E-BDCD-489B-A171-B3436EDDE2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i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Arc 5"/>
          <p:cNvSpPr/>
          <p:nvPr/>
        </p:nvSpPr>
        <p:spPr>
          <a:xfrm>
            <a:off x="7238880" y="22860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Arc 6"/>
          <p:cNvSpPr/>
          <p:nvPr/>
        </p:nvSpPr>
        <p:spPr>
          <a:xfrm rot="5400000">
            <a:off x="5295960" y="2857680"/>
            <a:ext cx="129528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AutoShape 7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AutoShape 8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9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5257800" y="16002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ériolog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3581280" y="7621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é a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dits inter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0" y="1981080"/>
            <a:ext cx="40384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 pas auditer votre propre travai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utr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B127-06C5-428E-8F2F-C70563CC9B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1" name="Group 12"/>
          <p:cNvGrpSpPr/>
          <p:nvPr/>
        </p:nvGrpSpPr>
        <p:grpSpPr>
          <a:xfrm>
            <a:off x="152280" y="533520"/>
            <a:ext cx="8991000" cy="5790600"/>
            <a:chOff x="152280" y="533520"/>
            <a:chExt cx="8991000" cy="5790600"/>
          </a:xfrm>
        </p:grpSpPr>
        <p:sp>
          <p:nvSpPr>
            <p:cNvPr id="252" name="AutoShape 11"/>
            <p:cNvSpPr/>
            <p:nvPr/>
          </p:nvSpPr>
          <p:spPr>
            <a:xfrm>
              <a:off x="152280" y="533520"/>
              <a:ext cx="8991000" cy="57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réparer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listes de contrôle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lanifier 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réguliers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Programme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d’audit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interne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ttribuer </a:t>
              </a:r>
              <a:br>
                <a:rPr sz="25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responsabilité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0" name="Text Box 3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7" descr="j0432664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bs00272_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MCj04349290000[1]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" descr="head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2E81-2EA3-4106-AE9D-4B65AF545F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processus préparant le personnel à un audit ex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nifier et gérer un audit in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comment utiliser les résultats d’un aud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idoyer à propos de l’importance des mesures correctives à prend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5342-36AA-42F1-A1F1-96D12881E5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AutoShape 24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AutoShape 13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1828800" y="7621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Directeur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Oval 7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1066680" y="2362320"/>
            <a:ext cx="3048120" cy="1557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Détermine la ligne de conduit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568440" y="4843440"/>
            <a:ext cx="4038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Assigne responsabilités</a:t>
            </a: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pour le programme d’audit interne – </a:t>
            </a:r>
            <a:r>
              <a:rPr b="0" lang="fr-FR" sz="1800" spc="-1" strike="noStrike">
                <a:solidFill>
                  <a:srgbClr val="ff6600"/>
                </a:solidFill>
                <a:latin typeface="Verdana"/>
              </a:rPr>
              <a:t>responsable qualit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00800" y="2514600"/>
            <a:ext cx="20574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soutient les mesures d’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AutoShape 20"/>
          <p:cNvSpPr/>
          <p:nvPr/>
        </p:nvSpPr>
        <p:spPr>
          <a:xfrm rot="5400000">
            <a:off x="1943280" y="1333440"/>
            <a:ext cx="761760" cy="9907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AutoShape 21"/>
          <p:cNvSpPr/>
          <p:nvPr/>
        </p:nvSpPr>
        <p:spPr>
          <a:xfrm rot="5400000">
            <a:off x="1942560" y="3543120"/>
            <a:ext cx="914400" cy="114300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AutoShape 22"/>
          <p:cNvSpPr/>
          <p:nvPr/>
        </p:nvSpPr>
        <p:spPr>
          <a:xfrm rot="5400000">
            <a:off x="6819840" y="1485720"/>
            <a:ext cx="990720" cy="10670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AutoShape 23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26"/>
          <p:cNvSpPr/>
          <p:nvPr/>
        </p:nvSpPr>
        <p:spPr>
          <a:xfrm>
            <a:off x="1905120" y="5715000"/>
            <a:ext cx="761760" cy="5335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2F68-77B7-453C-B49E-DD3551D419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AutoShape 31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152280" y="457200"/>
            <a:ext cx="8686800" cy="16250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Responsabilité du Responsab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Créer et maintenir un systèm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3200400" y="2652840"/>
            <a:ext cx="266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oordonne le processus d’audit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Gérer</a:t>
            </a:r>
            <a:br>
              <a:rPr sz="2000"/>
            </a:b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17"/>
          <p:cNvSpPr/>
          <p:nvPr/>
        </p:nvSpPr>
        <p:spPr>
          <a:xfrm rot="5400000">
            <a:off x="4076640" y="1942920"/>
            <a:ext cx="609480" cy="8380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18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457200" y="23623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Établir un calendri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’audi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Oval 24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Oval 25"/>
          <p:cNvSpPr/>
          <p:nvPr/>
        </p:nvSpPr>
        <p:spPr>
          <a:xfrm>
            <a:off x="304920" y="4876920"/>
            <a:ext cx="2057400" cy="13716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26"/>
          <p:cNvSpPr/>
          <p:nvPr/>
        </p:nvSpPr>
        <p:spPr>
          <a:xfrm>
            <a:off x="333360" y="50324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e personn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AutoShape 14"/>
          <p:cNvSpPr/>
          <p:nvPr/>
        </p:nvSpPr>
        <p:spPr>
          <a:xfrm rot="11374200">
            <a:off x="2133000" y="256788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AutoShape 23"/>
          <p:cNvSpPr/>
          <p:nvPr/>
        </p:nvSpPr>
        <p:spPr>
          <a:xfrm>
            <a:off x="5181480" y="5410080"/>
            <a:ext cx="144792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AutoShape 22"/>
          <p:cNvSpPr/>
          <p:nvPr/>
        </p:nvSpPr>
        <p:spPr>
          <a:xfrm rot="10800000">
            <a:off x="2209680" y="5333760"/>
            <a:ext cx="1371600" cy="53316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28"/>
          <p:cNvSpPr/>
          <p:nvPr/>
        </p:nvSpPr>
        <p:spPr>
          <a:xfrm>
            <a:off x="380880" y="3276720"/>
            <a:ext cx="1905120" cy="12189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29"/>
          <p:cNvSpPr/>
          <p:nvPr/>
        </p:nvSpPr>
        <p:spPr>
          <a:xfrm>
            <a:off x="457200" y="3276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Sélectionner et former des auditeu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AutoShape 30"/>
          <p:cNvSpPr/>
          <p:nvPr/>
        </p:nvSpPr>
        <p:spPr>
          <a:xfrm rot="9818400">
            <a:off x="2133000" y="327636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AutoShape 15"/>
          <p:cNvSpPr/>
          <p:nvPr/>
        </p:nvSpPr>
        <p:spPr>
          <a:xfrm rot="19251600">
            <a:off x="5257440" y="3733920"/>
            <a:ext cx="182880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6553080" y="52768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a dir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B2E2-B3F8-4678-80A1-801467907B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ner un audit inter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diger des listes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’ouver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cueillir et analyser les inform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e clô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4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838B-E76A-4C63-8DA6-5F7B3272D1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10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124080" y="3809880"/>
            <a:ext cx="2438640" cy="234000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96"/>
          <p:cNvGrpSpPr/>
          <p:nvPr/>
        </p:nvGrpSpPr>
        <p:grpSpPr>
          <a:xfrm>
            <a:off x="2639880" y="3657600"/>
            <a:ext cx="3228840" cy="2860560"/>
            <a:chOff x="2639880" y="3657600"/>
            <a:chExt cx="3228840" cy="2860560"/>
          </a:xfrm>
        </p:grpSpPr>
        <p:sp>
          <p:nvSpPr>
            <p:cNvPr id="313" name="AutoShape 95"/>
            <p:cNvSpPr/>
            <p:nvPr/>
          </p:nvSpPr>
          <p:spPr>
            <a:xfrm>
              <a:off x="2868480" y="3657600"/>
              <a:ext cx="277020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620643"/>
            <p:cNvSpPr/>
            <p:nvPr/>
          </p:nvSpPr>
          <p:spPr>
            <a:xfrm>
              <a:off x="3240720" y="3857400"/>
              <a:ext cx="2026440" cy="184032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_s620644"/>
            <p:cNvSpPr/>
            <p:nvPr/>
          </p:nvSpPr>
          <p:spPr>
            <a:xfrm rot="7200000">
              <a:off x="3610800" y="419868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_s620646"/>
            <p:cNvSpPr/>
            <p:nvPr/>
          </p:nvSpPr>
          <p:spPr>
            <a:xfrm rot="14400000">
              <a:off x="3057120" y="420120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_s620641"/>
            <p:cNvSpPr/>
            <p:nvPr/>
          </p:nvSpPr>
          <p:spPr>
            <a:xfrm>
              <a:off x="480888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_s620642"/>
            <p:cNvSpPr/>
            <p:nvPr/>
          </p:nvSpPr>
          <p:spPr>
            <a:xfrm>
              <a:off x="3847320" y="57067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620645"/>
            <p:cNvSpPr/>
            <p:nvPr/>
          </p:nvSpPr>
          <p:spPr>
            <a:xfrm>
              <a:off x="288576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réer un calendrier d’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ner des audits régulièr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dits plus fréquent en cas de problèmes ou de besoin d’amélio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audits devraient au cours du temps revoir tous les points essentiels du système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85C7-4590-423E-8881-CE014509E8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670536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ck-lists (listes de contrôle)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formulaires pour les actions correctives et les rap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6094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CORRECTIVE ACTION FORM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D152-0C9F-4202-BC0C-E0F7C31643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28" descr="Untitled-7"/>
          <p:cNvPicPr/>
          <p:nvPr/>
        </p:nvPicPr>
        <p:blipFill>
          <a:blip r:embed="rId1"/>
          <a:stretch/>
        </p:blipFill>
        <p:spPr>
          <a:xfrm>
            <a:off x="685800" y="1143000"/>
            <a:ext cx="716292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76AC-8D33-4690-B898-81DB434DA0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2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AutoShape 3"/>
          <p:cNvSpPr/>
          <p:nvPr/>
        </p:nvSpPr>
        <p:spPr>
          <a:xfrm rot="5400000">
            <a:off x="1294920" y="3047760"/>
            <a:ext cx="1295280" cy="129564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audits doiven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AutoShape 6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D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AutoShape 8"/>
          <p:cNvSpPr/>
          <p:nvPr/>
        </p:nvSpPr>
        <p:spPr>
          <a:xfrm>
            <a:off x="5638680" y="13716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des 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AutoShape 7"/>
          <p:cNvSpPr/>
          <p:nvPr/>
        </p:nvSpPr>
        <p:spPr>
          <a:xfrm rot="20101800">
            <a:off x="3123720" y="3885840"/>
            <a:ext cx="3619800" cy="12952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E0DC-9554-4F67-9901-A69D473F54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Picture 5" descr="j0435880"/>
          <p:cNvPicPr/>
          <p:nvPr/>
        </p:nvPicPr>
        <p:blipFill>
          <a:blip r:embed="rId1"/>
          <a:stretch/>
        </p:blipFill>
        <p:spPr>
          <a:xfrm>
            <a:off x="5486400" y="3166920"/>
            <a:ext cx="2819520" cy="25146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correctives et de rattrapag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es actions sont prises pour améliorer un processus ou corriger un problèm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228600" y="3809880"/>
            <a:ext cx="5562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i est responsable?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008000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05D0-C091-4BF0-A3FA-522CE1D5E1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ntreprendre des actions correctiv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e équipe de résolution de problèm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ercher les causes premiè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commander l’action corrective approprié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ttre en oeuvre l’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bserver l’efficacité de l’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s actions et leurs résult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7B38-E6A8-4113-BA8F-8CEE655938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Formulaire d’opportunité d’amélio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52" name="Picture 6" descr="CORRECTIVE ACTION FORM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53" name="ZoneTexte 5"/>
          <p:cNvSpPr/>
          <p:nvPr/>
        </p:nvSpPr>
        <p:spPr>
          <a:xfrm>
            <a:off x="3200400" y="1447920"/>
            <a:ext cx="2971800" cy="27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Formulaire d’action correcti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ZoneTexte 6"/>
          <p:cNvSpPr/>
          <p:nvPr/>
        </p:nvSpPr>
        <p:spPr>
          <a:xfrm>
            <a:off x="2362320" y="1963800"/>
            <a:ext cx="32004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ette action corrective est le résultat de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ZoneTexte 7"/>
          <p:cNvSpPr/>
          <p:nvPr/>
        </p:nvSpPr>
        <p:spPr>
          <a:xfrm>
            <a:off x="2819520" y="251460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in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ZoneTexte 8"/>
          <p:cNvSpPr/>
          <p:nvPr/>
        </p:nvSpPr>
        <p:spPr>
          <a:xfrm>
            <a:off x="2819520" y="28018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ex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ZoneTexte 9"/>
          <p:cNvSpPr/>
          <p:nvPr/>
        </p:nvSpPr>
        <p:spPr>
          <a:xfrm>
            <a:off x="5486400" y="220968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ZoneTexte 10"/>
          <p:cNvSpPr/>
          <p:nvPr/>
        </p:nvSpPr>
        <p:spPr>
          <a:xfrm>
            <a:off x="5486400" y="251460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ZoneTexte 11"/>
          <p:cNvSpPr/>
          <p:nvPr/>
        </p:nvSpPr>
        <p:spPr>
          <a:xfrm>
            <a:off x="5486400" y="281952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ZoneTexte 12"/>
          <p:cNvSpPr/>
          <p:nvPr/>
        </p:nvSpPr>
        <p:spPr>
          <a:xfrm>
            <a:off x="2362320" y="327672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Description du Problème ou du constat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il arrivé et Pourquoi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ZoneTexte 13"/>
          <p:cNvSpPr/>
          <p:nvPr/>
        </p:nvSpPr>
        <p:spPr>
          <a:xfrm>
            <a:off x="2362320" y="4781520"/>
            <a:ext cx="18288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apporté par: (Nom du personnel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ZoneTexte 14"/>
          <p:cNvSpPr/>
          <p:nvPr/>
        </p:nvSpPr>
        <p:spPr>
          <a:xfrm>
            <a:off x="2362320" y="541008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Action Corrective prise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ce qui a été fait pour prévenir la réapparition du problème)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ZoneTexte 15"/>
          <p:cNvSpPr/>
          <p:nvPr/>
        </p:nvSpPr>
        <p:spPr>
          <a:xfrm>
            <a:off x="2819520" y="22096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Consta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E5FB-23FF-4CF7-AA37-FF5A42A1AB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« Vous êtes le responsable qualité dans votre laboratoire et vous voulez organiser un audit interne. »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elles étapes allez vous suivre?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AD60-546D-4880-B3C2-0069918F8F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10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Le contrôle continu est l’élément clef du succès du systèm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9A5B-85B9-45EC-8F65-198E981FF3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Picture 92" descr="Untitled-9"/>
          <p:cNvPicPr/>
          <p:nvPr/>
        </p:nvPicPr>
        <p:blipFill>
          <a:blip r:embed="rId1"/>
          <a:stretch/>
        </p:blipFill>
        <p:spPr>
          <a:xfrm>
            <a:off x="304920" y="603360"/>
            <a:ext cx="838188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4A34-F6FD-4322-AF53-9858B948A6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685800" y="1371600"/>
            <a:ext cx="7696080" cy="4725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e n’est pas ce que vous trouvez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’est ce que vous faîtes de ce que vous trouvez.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545E-94C0-438F-A3CE-8F9CCE2057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évaluation est importante dans le contrôle de l’efficacité du système qualité du laboratoi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audits externes et internes fournissent des informations util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résultats de l’évaluation est de trouver les causes du problème et de prendre des mesures correctiv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FDDB-EC98-4DE1-9B2A-D899E53A7B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s les laboratoires devraient établir un programme d’audit interne. Conduit régulièrement, il fournira des informations favorisant les améliorations continu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 deviennent alors des opportunités d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30A2-3512-4C00-90BD-677AC704C9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14640" y="29714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8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2952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6AAD-1131-4775-9B71-E38495F29C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8" name="Picture 27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9528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9EB5-4372-4849-BCB6-8EAD759ACA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— 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076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alyse systématique de certaines (ou de toutes) parties du système de gestion de la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formité aux exig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9" descr="spy_guy"/>
          <p:cNvPicPr/>
          <p:nvPr/>
        </p:nvPicPr>
        <p:blipFill>
          <a:blip r:embed="rId1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C:\Users\Laurence\AppData\Local\Temp\Rar$DI00.100\bulles_def.gif"/>
          <p:cNvPicPr/>
          <p:nvPr/>
        </p:nvPicPr>
        <p:blipFill>
          <a:blip r:embed="rId2"/>
          <a:stretch/>
        </p:blipFill>
        <p:spPr>
          <a:xfrm>
            <a:off x="4495680" y="3884760"/>
            <a:ext cx="198144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BC80-8C5E-4383-A94D-F5122AD4B7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ubOvalCallout"/>
          <p:cNvSpPr/>
          <p:nvPr/>
        </p:nvSpPr>
        <p:spPr>
          <a:xfrm>
            <a:off x="228600" y="1143000"/>
            <a:ext cx="7086600" cy="541008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-ce qu’une évaluation 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Une personne deman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5" descr="j0234625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1219320" y="2209680"/>
            <a:ext cx="518148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Qu’est ce qui est fait 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Cela est il conforme aux lignes de conduite et aux procédur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6A0E-19CF-4C11-8B51-C3AC673E05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urquoi faire une évaluation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pprendre “ où nous en sommes ” en terme de gestion de la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 les écar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Besoin d’information pou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ifier, mettre en oeuv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mélior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MCBD19903_0000[1]"/>
          <p:cNvPicPr/>
          <p:nvPr/>
        </p:nvPicPr>
        <p:blipFill>
          <a:blip r:embed="rId1"/>
          <a:stretch/>
        </p:blipFill>
        <p:spPr>
          <a:xfrm>
            <a:off x="6934320" y="2362320"/>
            <a:ext cx="19047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0459-ED0E-4492-A631-EEAB9DA1D2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24" descr="lab_design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5791320" y="2438280"/>
            <a:ext cx="335268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5943600" y="2971800"/>
            <a:ext cx="297180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roupe ou agences extérie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udit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udit ex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17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18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19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27"/>
          <p:cNvSpPr/>
          <p:nvPr/>
        </p:nvSpPr>
        <p:spPr>
          <a:xfrm rot="5400000">
            <a:off x="1523880" y="327636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28"/>
          <p:cNvSpPr/>
          <p:nvPr/>
        </p:nvSpPr>
        <p:spPr>
          <a:xfrm rot="13572000">
            <a:off x="3352680" y="487620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294B-15CE-4ABE-AA18-7EE9CA9F5A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heminement du spécime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17" descr=""/>
          <p:cNvPicPr/>
          <p:nvPr/>
        </p:nvPicPr>
        <p:blipFill>
          <a:blip r:embed="rId1"/>
          <a:srcRect l="0" t="12742" r="0" b="0"/>
          <a:stretch/>
        </p:blipFill>
        <p:spPr>
          <a:xfrm>
            <a:off x="304920" y="1338120"/>
            <a:ext cx="830556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1:22:00Z</dcterms:created>
  <dc:creator>sam5</dc:creator>
  <dc:description/>
  <dc:language>en-US</dc:language>
  <cp:lastModifiedBy>dolmazonv</cp:lastModifiedBy>
  <dcterms:modified xsi:type="dcterms:W3CDTF">2010-04-07T17:06:09Z</dcterms:modified>
  <cp:revision>152</cp:revision>
  <dc:subject/>
  <dc:title>Slide 1</dc:title>
</cp:coreProperties>
</file>